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047-F5BD-4AA1-B49C-44A3ACD9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5E8-9873-4913-B0AB-C2E94A15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4DF-4E71-4E7A-822B-C923172A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0F3-7A4A-4802-85D2-FB0D2D1C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CBA-7D6D-499F-8379-E611E4C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B61-9715-4CC6-BD6B-A7D7C13C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6A1-88B8-4E8A-9CB6-81D1D23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817-7431-4D6A-BD0D-606830A9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0FA-9237-493F-9119-C7FD17E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7E6-B32D-44A0-A070-DEADBED3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4FB2-BD4C-438E-BD06-134A5184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18C-AD09-48F3-B555-A4469CD7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BD3F-B228-4FAE-AB5E-F90269579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27640" y="765000"/>
            <a:ext cx="2660760" cy="354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907920"/>
            <a:ext cx="4633920" cy="638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3024360" cy="24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4427640" y="2492280"/>
            <a:ext cx="175716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643280" y="404640"/>
            <a:ext cx="1338480" cy="1003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05092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2:25:05Z</dcterms:created>
  <dc:creator>User</dc:creator>
  <dc:description/>
  <dc:language>en-US</dc:language>
  <cp:lastModifiedBy>User</cp:lastModifiedBy>
  <dcterms:modified xsi:type="dcterms:W3CDTF">2010-12-13T12:29:24Z</dcterms:modified>
  <cp:revision>2</cp:revision>
  <dc:subject/>
  <dc:title>Слайд 1</dc:title>
</cp:coreProperties>
</file>